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465E-2C00-4B28-8ADD-D76893F14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0933-57E6-466C-9B41-68F65077A54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12BE-B5D9-4441-893C-0F4737B24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B0A3-60E0-4BBF-BDCF-D4966C22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5157-C129-445D-A25D-264CFF173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D19D-ACA4-4144-A0F1-EFDC2FB35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541D8-3A51-47D4-BFE9-82826B2B0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53A25-481B-4C2F-B3D8-2BA3E44F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DB39E3-4A68-44A7-8548-7CA20554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924DE-C1BE-4F62-976C-EEDF2974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198CD-62DC-4310-B78B-63527C89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BB8EB-5E95-488D-98F0-1EEB584F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083FD-CEE6-4BB3-AC80-7F3365D8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7808-7AD7-49D3-9F2B-8D186849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0EFA5-7239-4ADD-80DB-B9A5BEBF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36CC9-596D-42C3-B8F1-47946684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290B1-A29A-4928-B79A-248EEE65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EF04E-DCE7-48B0-9B5A-68FBAAEAD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16975-4659-444B-A62C-365A523D3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937F-9CA4-4BDD-8BD3-4FDB2870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2EE6-60A4-4E53-8F6B-49832D53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802C-BCA0-4CF6-AFE8-9B646B12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EF42-3FD6-430D-B31B-A0452C05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642F-A086-4BFA-912D-9A8BBEA6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A34B-A23A-44FD-954A-985F490E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DCD8-9CDB-46B1-AC57-6456A458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4026-3878-461D-B1FE-82F865953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3E46-6FC6-41C1-849D-C3741EED80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Tahoma"/>
              </a:rPr>
              <a:t>МЕДИЦИНСКИ</a:t>
            </a: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1800" spc="-1" strike="noStrike">
                <a:solidFill>
                  <a:srgbClr val="ffffff"/>
                </a:solidFill>
                <a:latin typeface="Tahoma"/>
              </a:rPr>
              <a:t>ФАКУЛТЕТ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1800" spc="-1" strike="noStrike">
                <a:solidFill>
                  <a:srgbClr val="ffffff"/>
                </a:solidFill>
                <a:latin typeface="Tahoma"/>
              </a:rPr>
              <a:t>КРАГУЈЕВАЦ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95280" y="3357360"/>
            <a:ext cx="81360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Tahoma"/>
              </a:rPr>
              <a:t>Рехабилитација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ahoma"/>
              </a:rPr>
              <a:t>болесника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ahoma"/>
              </a:rPr>
              <a:t>са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ahoma"/>
              </a:rPr>
              <a:t>М</a:t>
            </a:r>
            <a:r>
              <a:rPr b="1" lang="sr-Latn-CS" sz="3600" spc="-1" strike="noStrike">
                <a:solidFill>
                  <a:srgbClr val="ffffff"/>
                </a:solidFill>
                <a:latin typeface="Tahoma"/>
              </a:rPr>
              <a:t>b Bechterew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</a:t>
            </a: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8458200" cy="6375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ГЛОБУ КУ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ЕРИФЕРНИМ ЗГЛОБОВИ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РЦ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РУДНОМ КОШ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ЛУЋНОМ ПАРЕНХИМ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АСТРОИНТЕНСТИНАЛНОМ ТРАКТ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РОГЕНИТАЛНОМ ТРАКТ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ЧИМА- ИРИТИ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МЕНЕ У </a:t>
            </a:r>
            <a:r>
              <a:rPr b="0" lang="sr-Latn-C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P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РВНОМ СИСТЕМ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  MB BECHTER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893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з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гзацербаци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олик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з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миси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олик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ш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сец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д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оничан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лан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волутиван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к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20-25%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к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ж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т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аг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разит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гноза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б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chter</a:t>
            </a:r>
            <a:r>
              <a:rPr b="0" lang="sr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жин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ном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дијуму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дијум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етку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чењ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пен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радњ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к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ар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цесу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чењ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валитет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чењ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дн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фесионалн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собност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чајно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ањен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во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пун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способност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агноза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 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chter</a:t>
            </a:r>
            <a:r>
              <a:rPr b="0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68680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амнез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S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лу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ламаторног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актер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оченост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ти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ок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глоб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актеристичн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ик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в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ијаш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ић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Л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сти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5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0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м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обер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ннел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тезопатије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ферни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тритис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к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ен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очног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гл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еитис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ридоциклити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бораторијски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лаз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сутан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F,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брзан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ећањ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бриноген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ећањ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обулин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ф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т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обулин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ањењ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бумин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CRP ,  HL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B27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ге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тг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лаз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структивн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етричн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SI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тритити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диографски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лази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 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chter</a:t>
            </a:r>
            <a:r>
              <a:rPr b="0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071360"/>
            <a:ext cx="496872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в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ен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очавају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I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глобовим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розиј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правилност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артикуларн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леро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љан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имак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нију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C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MRI S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напредовалог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љењ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„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мбусов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тап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сцедентно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оштавањ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пој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гаменат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чм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варањ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ндилофи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цинтиграфиј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елет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I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д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6" descr="slika 2 str10"/>
          <p:cNvPicPr/>
          <p:nvPr/>
        </p:nvPicPr>
        <p:blipFill>
          <a:blip r:embed="rId1"/>
          <a:stretch/>
        </p:blipFill>
        <p:spPr>
          <a:xfrm>
            <a:off x="5364000" y="1484280"/>
            <a:ext cx="35863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ИОТЕРАПЕУТСКИ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ГЛЕД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 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chter</a:t>
            </a:r>
            <a:r>
              <a:rPr b="0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5472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рењ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ретљивост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умбалн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чм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Schober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ст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Dürrigl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ст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5 10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м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4,5+1,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рењ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р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ракалн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чм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то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ст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спираторн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декс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 1-30 3+2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м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рењ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ретљивост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рвикалн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чм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рвикалн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ле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ад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угулум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tuberantio occ ext,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 4+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рењ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им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рет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глобовим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кстремитет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м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T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винских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нетичких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на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6" descr="oto i shober"/>
          <p:cNvPicPr/>
          <p:nvPr/>
        </p:nvPicPr>
        <p:blipFill>
          <a:blip r:embed="rId1"/>
          <a:stretch/>
        </p:blipFill>
        <p:spPr>
          <a:xfrm>
            <a:off x="5651640" y="1989000"/>
            <a:ext cx="30193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глед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b Bechter</a:t>
            </a:r>
            <a:r>
              <a:rPr b="0" lang="sr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ањен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им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сталног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ањ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декс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ањ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(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цес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ша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стовертебралн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глобов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иолошк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7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м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,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еномен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умен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пт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декс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ретљивост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јединих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гменат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клинацијск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линацијск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дек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АПИЈА</a:t>
            </a:r>
            <a:r>
              <a:rPr b="1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 Bechterew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5075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апиј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ињ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им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крију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в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птом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посредн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љев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чењ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ратит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јањ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гзарцербациј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вит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алу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рол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речит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штећењ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глобо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блажит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чуват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жањ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чуват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ксималну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гућу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ретљивост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чменог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уб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864072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1.МЕДИКАМЕНТНА ТЕРАПИЈА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2400"/>
            </a:b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НСАИЛ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(диклофен, индоцид, флугалин, бруфен, роксикам, мовалис и сл.),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базична терапија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(сулфасалазин),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кортикостероид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2. МИРОВАЊЕ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10-12 сати у току 24 часа, забрањен принудни положај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3. ЕДУКАЦИЈА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Увек усправно стајати, ходати и седе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Код седења седиште треба да је тврдо, столица са високим наслоном за кичмени стуб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Лежање без јастука, а лежај треба да је тврд;потрбушн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збегавати савијање напред и подизање терета у савијеном положај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Вежбати сваки да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ИКАЛН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АПИЈ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 Bechtere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889280"/>
            <a:ext cx="822960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незитерап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мотерапијске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цедуре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Д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афин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Р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рачењ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лои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лтразву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лектротерапиј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Г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Ф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ФС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Д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гнетотерапиј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серотерапиј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дротерапиј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тотисање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отреб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теретних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дер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магал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етањ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Tahoma"/>
              </a:rPr>
              <a:t>Спондилоартропатиј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Mb Bechter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Mb Rei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sorijazni art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Reaktivni art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Juvenilne spondiloartropat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Nediferencira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pondiloartropat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56944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НЕЗИТЕРАПИЈ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 Bechtere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ператив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ИВН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РЕТ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м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з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пизод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ридоциклитис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ферног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трити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ачањ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авертебралн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скулатур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ећањ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ретљивост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мен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ко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жб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ањ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ификациј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стовертебралних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ракално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ањ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ртске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ивност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звољен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рез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бољ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бор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ртов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ди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9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</a:t>
            </a:r>
            <a:r>
              <a:rPr b="1" lang="sr-C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ДАЦИ:                            МЕТОД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990360"/>
            <a:ext cx="36576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5e0e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ЧУВАЊЕ ОБИМА ПОКР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ВЕЋАЊЕ ОБИМА ПОКР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ЈАЧАЊЕ МИШИЋНЕ СНАГ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РЕКЦИЈЕ ИЗМЕЊЕНЕ СТАТИ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267080" y="990360"/>
            <a:ext cx="36576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101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АКТИВАН ПОКРЕТ</a:t>
            </a:r>
            <a:r>
              <a:rPr b="1" lang="sr-CS" sz="24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101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АК.ПОКРЕТ СА ОТПОР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101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PNF </a:t>
            </a:r>
            <a:r>
              <a:rPr b="1" lang="sr-CS" sz="24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ТЕХ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101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РЕЛАКСАЦИОНЕ ТЕХНИ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101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ЈАЧАЊЕ МИШИЋНЕ СНАГЕ ПО МЕТОД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DE LORME-WATKIN</a:t>
            </a:r>
            <a:r>
              <a:rPr b="1" lang="sr-Latn-CS" sz="24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-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0962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РСТЕ</a:t>
            </a:r>
            <a:r>
              <a:rPr b="0" lang="sr-Latn-C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ЕЖБИ</a:t>
            </a:r>
            <a:r>
              <a:rPr b="0" lang="sr-Latn-C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Д</a:t>
            </a:r>
            <a:r>
              <a:rPr b="0" lang="sr-Latn-C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М</a:t>
            </a:r>
            <a:r>
              <a:rPr b="1" lang="en-US" sz="24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b Bechterew</a:t>
            </a:r>
            <a:r>
              <a:rPr b="0" lang="en-US" sz="24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42560" y="914040"/>
            <a:ext cx="846756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ЕЖБЕ ДИСАЊ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ЕЖБЕ ЗА ЈАЧАЊЕ ЕКСТЕНЗОРА ТРУПА И УДО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ЕЖБЕ ЗА МОБИЛИЗАЦИЈУ КИЧМЕНОГ СТУБ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ЕЖБЕ ЗА ИСТЕЗАЊЕ СКРАЋЕНИХ МИШИЋ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ЕЖБЕ ЗА ЈАЧАЊЕ ТРБУШНЕ МУСКУЛАТУР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ПШТЕ КОНДИЦИОНЕ ВЕЖБ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Sladja diplomski\Sladja diplomski\sladja slike\img048.jpg"/>
          <p:cNvPicPr/>
          <p:nvPr/>
        </p:nvPicPr>
        <p:blipFill>
          <a:blip r:embed="rId1"/>
          <a:stretch/>
        </p:blipFill>
        <p:spPr>
          <a:xfrm>
            <a:off x="228600" y="152280"/>
            <a:ext cx="2643120" cy="1381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Sladja diplomski\Sladja diplomski\sladja slike\img049.jpg"/>
          <p:cNvPicPr/>
          <p:nvPr/>
        </p:nvPicPr>
        <p:blipFill>
          <a:blip r:embed="rId2"/>
          <a:stretch/>
        </p:blipFill>
        <p:spPr>
          <a:xfrm>
            <a:off x="3048120" y="152280"/>
            <a:ext cx="2763720" cy="1096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Sladja diplomski\Sladja diplomski\sladja slike\img050.jpg"/>
          <p:cNvPicPr/>
          <p:nvPr/>
        </p:nvPicPr>
        <p:blipFill>
          <a:blip r:embed="rId3"/>
          <a:stretch/>
        </p:blipFill>
        <p:spPr>
          <a:xfrm>
            <a:off x="5943600" y="152280"/>
            <a:ext cx="2763720" cy="1096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Sladja diplomski\Sladja diplomski\sladja slike\img051.jpg"/>
          <p:cNvPicPr/>
          <p:nvPr/>
        </p:nvPicPr>
        <p:blipFill>
          <a:blip r:embed="rId4"/>
          <a:stretch/>
        </p:blipFill>
        <p:spPr>
          <a:xfrm>
            <a:off x="228600" y="2143080"/>
            <a:ext cx="3316320" cy="1285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C:\Sladja diplomski\Sladja diplomski\sladja slike\img052.jpg"/>
          <p:cNvPicPr/>
          <p:nvPr/>
        </p:nvPicPr>
        <p:blipFill>
          <a:blip r:embed="rId5"/>
          <a:stretch/>
        </p:blipFill>
        <p:spPr>
          <a:xfrm>
            <a:off x="3962520" y="1357200"/>
            <a:ext cx="1752480" cy="1979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C:\Sladja diplomski\Sladja diplomski\sladja slike\img053.jpg"/>
          <p:cNvPicPr/>
          <p:nvPr/>
        </p:nvPicPr>
        <p:blipFill>
          <a:blip r:embed="rId6"/>
          <a:stretch/>
        </p:blipFill>
        <p:spPr>
          <a:xfrm>
            <a:off x="6248520" y="1500120"/>
            <a:ext cx="1895400" cy="2857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C:\Sladja diplomski\Sladja diplomski\sladja slike\img054.jpg"/>
          <p:cNvPicPr/>
          <p:nvPr/>
        </p:nvPicPr>
        <p:blipFill>
          <a:blip r:embed="rId7"/>
          <a:stretch/>
        </p:blipFill>
        <p:spPr>
          <a:xfrm>
            <a:off x="1447920" y="3581280"/>
            <a:ext cx="4330440" cy="3276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37920" y="152280"/>
            <a:ext cx="6172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СТЕЗАЊЕ СКРАЋЕНИХ МИШИЋ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286000" y="837720"/>
            <a:ext cx="6477120" cy="5537160"/>
          </a:xfrm>
          <a:prstGeom prst="rect">
            <a:avLst/>
          </a:prstGeom>
          <a:solidFill>
            <a:srgbClr val="ceeeee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2" descr="C:\Sladja diplomski\Sladja diplomski\sladja slike\img055.jpg"/>
          <p:cNvPicPr/>
          <p:nvPr/>
        </p:nvPicPr>
        <p:blipFill>
          <a:blip r:embed="rId1"/>
          <a:stretch/>
        </p:blipFill>
        <p:spPr>
          <a:xfrm>
            <a:off x="2362320" y="914400"/>
            <a:ext cx="3852720" cy="1871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C:\Sladja diplomski\Sladja diplomski\sladja slike\img056.jpg"/>
          <p:cNvPicPr/>
          <p:nvPr/>
        </p:nvPicPr>
        <p:blipFill>
          <a:blip r:embed="rId2"/>
          <a:stretch/>
        </p:blipFill>
        <p:spPr>
          <a:xfrm>
            <a:off x="3214800" y="2857680"/>
            <a:ext cx="4357440" cy="1652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C:\Sladja diplomski\Sladja diplomski\sladja slike\img057.jpg"/>
          <p:cNvPicPr/>
          <p:nvPr/>
        </p:nvPicPr>
        <p:blipFill>
          <a:blip r:embed="rId3"/>
          <a:stretch/>
        </p:blipFill>
        <p:spPr>
          <a:xfrm>
            <a:off x="4786200" y="4572000"/>
            <a:ext cx="3672000" cy="1857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172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ЕЖБЕ ЈАЧАЊА</a:t>
            </a:r>
            <a:r>
              <a:rPr b="0" lang="sr-Latn-CS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 ИСТЕЗАЊА ЕКСТЕНЗОРА ТРУПА И</a:t>
            </a:r>
            <a:r>
              <a:rPr b="0" lang="sr-Latn-CS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ДОВ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143000" y="990720"/>
            <a:ext cx="7315200" cy="5867280"/>
          </a:xfrm>
          <a:prstGeom prst="rect">
            <a:avLst/>
          </a:prstGeom>
          <a:solidFill>
            <a:srgbClr val="ceeeee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2" descr="C:\Sladja diplomski\Sladja diplomski\sladja slike\img038.jpg"/>
          <p:cNvPicPr/>
          <p:nvPr/>
        </p:nvPicPr>
        <p:blipFill>
          <a:blip r:embed="rId1"/>
          <a:stretch/>
        </p:blipFill>
        <p:spPr>
          <a:xfrm>
            <a:off x="2362320" y="1066680"/>
            <a:ext cx="2971800" cy="792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:\Sladja diplomski\Sladja diplomski\sladja slike\img039.jpg"/>
          <p:cNvPicPr/>
          <p:nvPr/>
        </p:nvPicPr>
        <p:blipFill>
          <a:blip r:embed="rId2"/>
          <a:stretch/>
        </p:blipFill>
        <p:spPr>
          <a:xfrm>
            <a:off x="5410080" y="1066680"/>
            <a:ext cx="2810160" cy="79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C:\Sladja diplomski\Sladja diplomski\sladja slike\img040.jpg"/>
          <p:cNvPicPr/>
          <p:nvPr/>
        </p:nvPicPr>
        <p:blipFill>
          <a:blip r:embed="rId3"/>
          <a:stretch/>
        </p:blipFill>
        <p:spPr>
          <a:xfrm>
            <a:off x="2362320" y="1981080"/>
            <a:ext cx="2971800" cy="792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C:\Sladja diplomski\Sladja diplomski\sladja slike\img042.jpg"/>
          <p:cNvPicPr/>
          <p:nvPr/>
        </p:nvPicPr>
        <p:blipFill>
          <a:blip r:embed="rId4"/>
          <a:stretch/>
        </p:blipFill>
        <p:spPr>
          <a:xfrm>
            <a:off x="2362320" y="2895480"/>
            <a:ext cx="2990880" cy="854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C:\Sladja diplomski\Sladja diplomski\sladja slike\img041.jpg"/>
          <p:cNvPicPr/>
          <p:nvPr/>
        </p:nvPicPr>
        <p:blipFill>
          <a:blip r:embed="rId5"/>
          <a:stretch/>
        </p:blipFill>
        <p:spPr>
          <a:xfrm>
            <a:off x="5410080" y="1981080"/>
            <a:ext cx="2810160" cy="792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C:\Sladja diplomski\Sladja diplomski\sladja slike\img043.jpg"/>
          <p:cNvPicPr/>
          <p:nvPr/>
        </p:nvPicPr>
        <p:blipFill>
          <a:blip r:embed="rId6"/>
          <a:stretch/>
        </p:blipFill>
        <p:spPr>
          <a:xfrm>
            <a:off x="5410080" y="2895480"/>
            <a:ext cx="2826000" cy="838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C:\Sladja diplomski\Sladja diplomski\sladja slike\img044.jpg"/>
          <p:cNvPicPr/>
          <p:nvPr/>
        </p:nvPicPr>
        <p:blipFill>
          <a:blip r:embed="rId7"/>
          <a:stretch/>
        </p:blipFill>
        <p:spPr>
          <a:xfrm>
            <a:off x="2362320" y="3809880"/>
            <a:ext cx="2971800" cy="838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C:\Sladja diplomski\Sladja diplomski\sladja slike\img045.jpg"/>
          <p:cNvPicPr/>
          <p:nvPr/>
        </p:nvPicPr>
        <p:blipFill>
          <a:blip r:embed="rId8"/>
          <a:stretch/>
        </p:blipFill>
        <p:spPr>
          <a:xfrm>
            <a:off x="5410080" y="3809880"/>
            <a:ext cx="2819520" cy="854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C:\Sladja diplomski\Sladja diplomski\sladja slike\img046.jpg"/>
          <p:cNvPicPr/>
          <p:nvPr/>
        </p:nvPicPr>
        <p:blipFill>
          <a:blip r:embed="rId9"/>
          <a:stretch/>
        </p:blipFill>
        <p:spPr>
          <a:xfrm>
            <a:off x="2362320" y="4724280"/>
            <a:ext cx="2971800" cy="1143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C:\Sladja diplomski\Sladja diplomski\sladja slike\img047.jpg"/>
          <p:cNvPicPr/>
          <p:nvPr/>
        </p:nvPicPr>
        <p:blipFill>
          <a:blip r:embed="rId10"/>
          <a:stretch/>
        </p:blipFill>
        <p:spPr>
          <a:xfrm>
            <a:off x="5410080" y="4724280"/>
            <a:ext cx="2819520" cy="1381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361960" y="152280"/>
            <a:ext cx="6172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ЕЖБЕ</a:t>
            </a:r>
            <a:r>
              <a:rPr b="0" lang="sr-Latn-C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ИСАЊ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785880" y="714240"/>
            <a:ext cx="7743600" cy="6143760"/>
          </a:xfrm>
          <a:prstGeom prst="rect">
            <a:avLst/>
          </a:prstGeom>
          <a:solidFill>
            <a:srgbClr val="ceeeee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2" descr="C:\Sladja diplomski\Sladja diplomski\sladja slike\img026.jpg"/>
          <p:cNvPicPr/>
          <p:nvPr/>
        </p:nvPicPr>
        <p:blipFill>
          <a:blip r:embed="rId1"/>
          <a:stretch/>
        </p:blipFill>
        <p:spPr>
          <a:xfrm>
            <a:off x="2438280" y="1143000"/>
            <a:ext cx="2514600" cy="792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C:\Sladja diplomski\Sladja diplomski\sladja slike\img027.jpg"/>
          <p:cNvPicPr/>
          <p:nvPr/>
        </p:nvPicPr>
        <p:blipFill>
          <a:blip r:embed="rId2"/>
          <a:stretch/>
        </p:blipFill>
        <p:spPr>
          <a:xfrm>
            <a:off x="5791320" y="1143000"/>
            <a:ext cx="2514600" cy="792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C:\Sladja diplomski\Sladja diplomski\sladja slike\img028.jpg"/>
          <p:cNvPicPr/>
          <p:nvPr/>
        </p:nvPicPr>
        <p:blipFill>
          <a:blip r:embed="rId3"/>
          <a:stretch/>
        </p:blipFill>
        <p:spPr>
          <a:xfrm>
            <a:off x="2438280" y="2133720"/>
            <a:ext cx="2514600" cy="79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C:\Sladja diplomski\Sladja diplomski\sladja slike\img029.jpg"/>
          <p:cNvPicPr/>
          <p:nvPr/>
        </p:nvPicPr>
        <p:blipFill>
          <a:blip r:embed="rId4"/>
          <a:stretch/>
        </p:blipFill>
        <p:spPr>
          <a:xfrm>
            <a:off x="5791320" y="2133720"/>
            <a:ext cx="2541600" cy="792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C:\Sladja diplomski\Sladja diplomski\sladja slike\img030.jpg"/>
          <p:cNvPicPr/>
          <p:nvPr/>
        </p:nvPicPr>
        <p:blipFill>
          <a:blip r:embed="rId5"/>
          <a:stretch/>
        </p:blipFill>
        <p:spPr>
          <a:xfrm>
            <a:off x="5791320" y="3124080"/>
            <a:ext cx="2541600" cy="990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C:\Sladja diplomski\Sladja diplomski\sladja slike\img031.jpg"/>
          <p:cNvPicPr/>
          <p:nvPr/>
        </p:nvPicPr>
        <p:blipFill>
          <a:blip r:embed="rId6"/>
          <a:stretch/>
        </p:blipFill>
        <p:spPr>
          <a:xfrm>
            <a:off x="2438280" y="3124080"/>
            <a:ext cx="2541600" cy="1076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C:\Sladja diplomski\Sladja diplomski\sladja slike\img032.jpg"/>
          <p:cNvPicPr/>
          <p:nvPr/>
        </p:nvPicPr>
        <p:blipFill>
          <a:blip r:embed="rId7"/>
          <a:stretch/>
        </p:blipFill>
        <p:spPr>
          <a:xfrm>
            <a:off x="2438280" y="4343400"/>
            <a:ext cx="2746440" cy="1868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C:\Sladja diplomski\Sladja diplomski\sladja slike\img033.jpg"/>
          <p:cNvPicPr/>
          <p:nvPr/>
        </p:nvPicPr>
        <p:blipFill>
          <a:blip r:embed="rId8"/>
          <a:stretch/>
        </p:blipFill>
        <p:spPr>
          <a:xfrm>
            <a:off x="6781680" y="4343400"/>
            <a:ext cx="1503360" cy="1868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4247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ЛОГ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РА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 Bechterew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5186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но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кривањ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екватан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апијск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гра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н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хабилитациј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љем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поравањ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гресивног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к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блажавањ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ојећих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ункционалних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штећењ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дукациј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к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диц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мск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д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ок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јалн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равствен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шти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животн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незитерапиј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ек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правно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дат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јат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де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истит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теретн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дер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јасев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љу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екциј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фоз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агноза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 Rei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амнез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атак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тходној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к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н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лигоартритис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тезопати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њуктивитис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кокутан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лцераци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алн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ланитис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бораториј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специфичн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аметр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ал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RF -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ис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етр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рвикс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прокул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тг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дностран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ок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ких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кив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ен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глобних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то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агноза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оријазног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тритис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амнез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глед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оријаз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лигоартритис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тезопати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утн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њуктивити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бораториј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спец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ктор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ал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-R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тг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ок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ких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кив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ролиз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ен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глобних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тор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**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ловк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ољ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*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ahoma"/>
              </a:rPr>
              <a:t>MB BECHTEREW</a:t>
            </a: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Tahoma"/>
              </a:rPr>
              <a:t>(Ankilozirajući spondiliti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оничн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аљенск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гредијентн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уматск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познатог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рок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стемск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-10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шћ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шкарац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пад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уп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онегативних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уматских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(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суство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g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в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к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L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 2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етак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го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познај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ојем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тај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брозн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тим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штан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килоз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SI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глобов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их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гаменат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чменог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уб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лих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глобов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вертебралних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стовертебралних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рнокосталних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глобов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лика између запаљењског и дегенеративног бола у зглоб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аљењски бол се појачава са мировањ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бораторијске анализе су повећане (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,CRP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 дегенеративног је супрот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и</a:t>
            </a:r>
            <a:r>
              <a:rPr b="0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агностички</a:t>
            </a:r>
            <a:r>
              <a:rPr b="0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итеријуми</a:t>
            </a:r>
            <a:r>
              <a:rPr b="0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ндилоартропатиј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чм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аљењск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роде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етак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45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д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епн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етак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бољшањ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пор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утарњ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оченост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јањ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р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сец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lang="sr-Latn-C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4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од</a:t>
            </a:r>
            <a:r>
              <a:rPr b="0" lang="sr-Latn-C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наведеног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овити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ниј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ојећ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симетричн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трити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тритис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тежн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редни</a:t>
            </a:r>
            <a:r>
              <a:rPr b="0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агностички</a:t>
            </a:r>
            <a:r>
              <a:rPr b="0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итеријуми</a:t>
            </a:r>
            <a:r>
              <a:rPr b="0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ндилоартропатиј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дичн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амнез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б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chter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оријазу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еитис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ктивн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тритис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рев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)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I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ен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ориј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аљењск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ре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утеалном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елу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ниј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дашњ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тезопат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утн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ареј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дњих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се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retritis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ervicitis ,,      ,,      ,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croillit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85920" y="228600"/>
            <a:ext cx="69292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ЕТИОЛОГИЈА</a:t>
            </a:r>
            <a:r>
              <a:rPr b="0" lang="en-US" sz="32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МБ</a:t>
            </a:r>
            <a:r>
              <a:rPr b="0" lang="en-US" sz="32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BECHTERE</a:t>
            </a:r>
            <a:r>
              <a:rPr b="0" lang="en-US" sz="32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3" name="Subtitle 2"/>
          <p:cNvGrpSpPr/>
          <p:nvPr/>
        </p:nvGrpSpPr>
        <p:grpSpPr>
          <a:xfrm>
            <a:off x="-60480" y="646200"/>
            <a:ext cx="8217000" cy="5675400"/>
            <a:chOff x="-60480" y="646200"/>
            <a:chExt cx="8217000" cy="5675400"/>
          </a:xfrm>
        </p:grpSpPr>
        <p:pic>
          <p:nvPicPr>
            <p:cNvPr id="104" name="Subtitle 2" descr=""/>
            <p:cNvPicPr/>
            <p:nvPr/>
          </p:nvPicPr>
          <p:blipFill>
            <a:blip r:embed="rId1"/>
            <a:stretch/>
          </p:blipFill>
          <p:spPr>
            <a:xfrm>
              <a:off x="-60480" y="646200"/>
              <a:ext cx="8217000" cy="567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0" y="785880"/>
              <a:ext cx="8101080" cy="546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3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Узрок</a:t>
              </a:r>
              <a:r>
                <a:rPr b="0" lang="sr-Latn-CS" sz="3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</a:t>
              </a:r>
              <a:r>
                <a:rPr b="0" lang="sr-CS" sz="3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болести</a:t>
              </a:r>
              <a:r>
                <a:rPr b="0" lang="sr-Latn-CS" sz="3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</a:t>
              </a:r>
              <a:r>
                <a:rPr b="0" lang="sr-CS" sz="3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је</a:t>
              </a:r>
              <a:r>
                <a:rPr b="0" lang="sr-Latn-CS" sz="3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</a:t>
              </a:r>
              <a:r>
                <a:rPr b="0" lang="sr-CS" sz="3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непознат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  <a:p>
              <a:pPr lvl="4" marL="2057400" indent="-228600">
                <a:lnSpc>
                  <a:spcPct val="100000"/>
                </a:lnSpc>
                <a:spcBef>
                  <a:spcPts val="901"/>
                </a:spcBef>
                <a:buClr>
                  <a:srgbClr val="000099"/>
                </a:buClr>
                <a:buSzPct val="80000"/>
                <a:buFont typeface="Wingdings" charset="2"/>
                <a:buChar char="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3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Метаболички</a:t>
              </a:r>
              <a:r>
                <a:rPr b="0" lang="sr-Latn-CS" sz="3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,</a:t>
              </a:r>
              <a:r>
                <a:rPr b="0" lang="sr-CS" sz="3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ендокрини</a:t>
              </a:r>
              <a:r>
                <a:rPr b="0" lang="sr-Latn-CS" sz="3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, </a:t>
              </a:r>
              <a:r>
                <a:rPr b="0" lang="sr-CS" sz="3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алергијски</a:t>
              </a:r>
              <a:r>
                <a:rPr b="0" lang="sr-Latn-CS" sz="3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</a:t>
              </a:r>
              <a:r>
                <a:rPr b="0" lang="sr-CS" sz="3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поремећаји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  <a:p>
              <a:pPr lvl="4" marL="2057400" indent="-228600" algn="just">
                <a:lnSpc>
                  <a:spcPct val="100000"/>
                </a:lnSpc>
                <a:spcBef>
                  <a:spcPts val="901"/>
                </a:spcBef>
                <a:buClr>
                  <a:srgbClr val="000099"/>
                </a:buClr>
                <a:buSzPct val="80000"/>
                <a:buFont typeface="Wingdings" charset="2"/>
                <a:buChar char="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3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Неуровегетативни</a:t>
              </a:r>
              <a:r>
                <a:rPr b="0" lang="sr-Latn-CS" sz="3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</a:t>
              </a:r>
              <a:r>
                <a:rPr b="0" lang="sr-CS" sz="3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порем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  <a:p>
              <a:pPr lvl="4" marL="2057400" indent="-228600" algn="just">
                <a:lnSpc>
                  <a:spcPct val="100000"/>
                </a:lnSpc>
                <a:spcBef>
                  <a:spcPts val="901"/>
                </a:spcBef>
                <a:buClr>
                  <a:srgbClr val="000099"/>
                </a:buClr>
                <a:buSzPct val="80000"/>
                <a:buFont typeface="Wingdings" charset="2"/>
                <a:buChar char="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3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Генетика</a:t>
              </a:r>
              <a:r>
                <a:rPr b="0" lang="sr-Latn-CS" sz="3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(HL</a:t>
              </a:r>
              <a:r>
                <a:rPr b="0" lang="sr-CS" sz="3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А</a:t>
              </a:r>
              <a:r>
                <a:rPr b="0" lang="sr-Latn-CS" sz="3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B27)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  <a:p>
              <a:pPr lvl="4" marL="2057400" indent="-228600" algn="just">
                <a:lnSpc>
                  <a:spcPct val="100000"/>
                </a:lnSpc>
                <a:spcBef>
                  <a:spcPts val="901"/>
                </a:spcBef>
                <a:buClr>
                  <a:srgbClr val="000099"/>
                </a:buClr>
                <a:buSzPct val="80000"/>
                <a:buFont typeface="Wingdings" charset="2"/>
                <a:buChar char="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3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Бакт</a:t>
              </a:r>
              <a:r>
                <a:rPr b="0" lang="sr-Latn-CS" sz="3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e</a:t>
              </a:r>
              <a:r>
                <a:rPr b="0" lang="sr-CS" sz="3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ријске</a:t>
              </a:r>
              <a:r>
                <a:rPr b="0" lang="sr-Latn-CS" sz="3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</a:t>
              </a:r>
              <a:r>
                <a:rPr b="0" lang="sr-CS" sz="3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инфекције</a:t>
              </a:r>
              <a:r>
                <a:rPr b="0" lang="sr-Latn-CS" sz="3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UGS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  <a:p>
              <a:pPr lvl="4" marL="2057400" indent="-228600">
                <a:lnSpc>
                  <a:spcPct val="100000"/>
                </a:lnSpc>
                <a:spcBef>
                  <a:spcPts val="1001"/>
                </a:spcBef>
                <a:buClr>
                  <a:srgbClr val="000099"/>
                </a:buClr>
                <a:buSzPct val="80000"/>
                <a:buFont typeface="Wingdings" charset="2"/>
                <a:buChar char="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32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-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ТОГЕНЕЗА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 BECHTER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овити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ртебралних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глобних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сет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ј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вод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струкциј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скавиц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олн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ст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аљенск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ен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броосалним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јевим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вертебралних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кус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I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глобовим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нденциј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ификациј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каних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зивних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укту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I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глобов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ир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умбалн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тим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ракалн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атн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о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чм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А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ИКА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 BECHTER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356840"/>
            <a:ext cx="603576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стим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ти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утарњ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оченост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лигоартритис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њих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до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сту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пој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тив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-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тив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олумбални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г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пој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тив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шијадичној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сти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ридоциклити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лпаторн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етљивост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шић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граничен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во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F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чм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nel-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6" descr="bechterew 2"/>
          <p:cNvPicPr/>
          <p:nvPr/>
        </p:nvPicPr>
        <p:blipFill>
          <a:blip r:embed="rId1"/>
          <a:stretch/>
        </p:blipFill>
        <p:spPr>
          <a:xfrm>
            <a:off x="6372360" y="1341360"/>
            <a:ext cx="24256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11:30:09Z</dcterms:created>
  <dc:creator>Manic</dc:creator>
  <dc:description/>
  <dc:language>en-US</dc:language>
  <cp:lastModifiedBy>Info</cp:lastModifiedBy>
  <dcterms:modified xsi:type="dcterms:W3CDTF">2014-04-23T12:03:44Z</dcterms:modified>
  <cp:revision>39</cp:revision>
  <dc:subject/>
  <dc:title>MEDICINSKI FAKULTET KRAGUJEVAC Smer: Diplomirani viši medicinski tehničar Usmerenje: Fizioterapeut   DIPLOMSKI RAD</dc:title>
</cp:coreProperties>
</file>